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6064-EA87-45B6-B342-A0F2A262BC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52DBF-9B5F-4D7A-BBD7-B508F24E4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757C17-E8AB-421F-8C4F-FC957FD96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0137AD-A436-4794-8972-4C01E4947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C19DD-62C4-4CA1-AB9C-3DE7F4E2E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0B602-5062-41BD-BA81-B100A2DD8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8D446-75BE-4A0C-8462-0E4522A2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4E743-3B80-4E8A-A856-761FB55121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86C5F-C9CE-490F-944E-026E5E91E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5BC130-23CD-4C84-ACF1-289195525B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2B67DE4-7EF6-400E-87C6-F128FC67D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78BB16-7B28-46CA-B087-803DEBA02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FA9F-EE85-4BC7-BCE8-83D31AB7F2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CDC92D-0CC7-4855-B765-4B6407F53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AE33230-090C-4BF1-A462-C0EC293D2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F10861-3A21-432A-8479-C679B7675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D3A3656-B116-4A53-BBBB-98B27EF92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6F4976-0780-4323-817C-F6813D36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6C2BA2-F533-42C1-8836-90F89D5A5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FEE05-664A-4B79-B3BD-69F6C06E2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8BAC9D9-5D97-4B57-AC21-99EEB3847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136CF02-0BE7-4AAF-92F0-3F5E1E38E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761523-5CFB-41E8-80E4-A961D636A2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C2CC8-3FB5-401F-A986-D71076418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D4072C-6D0D-4BDB-86F6-438E61D02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53D9E52-203F-4AAE-8944-C17C2B448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2561AC-8016-4C9C-A7CF-E64A7201C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0E11D5-7DEC-40EB-8143-BAD4882FC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71C835-964D-435C-801C-2D2A64ECF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2DDFC-317B-45BF-AD5F-E64E137C7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B0D745-A9CA-4D42-A2D4-B13C2FB9C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2C1A09-C734-4EE5-939D-E89D5BCBD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BB9933A-A7C0-430E-9094-8C53878A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8C49E8E-6937-49C6-9C44-C7D7D90B2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17539-D065-4FDF-B11C-D7CE98DBA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E646E6-B30D-42FB-9E96-AAAA4EA5F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068C70-88A0-4B4F-B5D2-91BF0020D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D3E99A-1C5F-4FF4-B2A0-AF136DF7D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42FCE8-2B43-4D9F-863A-0D3D7117E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B9B733-CB12-4549-9524-989D2C9C6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CBD527-48E8-4CB4-BEB3-AA3E8ED7F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5A0282-49B3-47E3-9A29-B1F7E1A9F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E73D86-A4DB-40E9-AD85-18DEC1331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E43539-88DE-4816-8432-6731672FD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F352E6F-8C86-421B-A199-4FFCBBA40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7E75A-02A0-4EAA-9F23-BC6A11A6F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AA35F1-3CD9-493F-A8FF-C5664E34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93C738-0D0A-435A-8407-F1B5B0D5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511670B-CE8F-4C1A-966F-7B87D4578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60B9D1-6568-4898-A7BB-DD2570834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35405C-B1B5-4E4D-8260-C2A0FD4C2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F99304D-5300-4767-A09E-59BC5F283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1472B6-0E43-49D7-BB40-B6CAEDEF6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FC15DC-F726-475D-8D14-25040F3F7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500126-0B83-4CC9-9AD4-0665CD12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31B5F0-B010-4820-933C-C5554F262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984364-67E5-4679-B6E7-D8B51825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ABAB1C-7A39-435C-9A6C-3D3EFC625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7A87F9-A6BB-4CB9-8BD6-C5B0B52E2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4DBFAA-8154-48B1-92EE-2DDB19247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4F6AA0C-C440-445D-9F73-8AB340DD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F2977C-F01B-4429-918B-CA7D0B86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E06DCBE-7654-4DBA-8858-01DE8E18D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7DCFB53-73E2-4A20-8D19-D503877AF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AC0EBD4-62A0-49D1-B521-2F92E30AEE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E47ED6-D189-478F-93A5-065C1F3F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B69DC5-0D30-44C8-856B-E6A18FBCA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79482-7D7C-4F9C-9957-72B5F338A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A9AC96-7B82-490B-AAF7-73CD4445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8D6BCC-95C0-4ADB-8A37-2B6CE066B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D52301-C052-453D-90B8-0A89E4C3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2DB9F79-B6CE-4F0A-902B-D173CFFB2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EBAA87-D494-486A-8629-0EAA5E85C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ABD523-D7A9-455F-8870-7A59989FF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FB20BF-7765-4002-89D8-A6750BB1B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565C68-836D-4122-A331-2DCAB5EFA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B3A33A-2170-4AFC-A640-530B4FE46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5CBF575-725D-40F6-A1E8-FC0C614DA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4E908-6DBF-445B-8036-F709DEA38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C6A255B-7253-422C-ABAD-F7AEF139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586DDD-D7E2-4AAF-A209-E3AAC34FD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4E775F2-6269-48C5-B6CA-D4FC3F1A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54831FD-13F7-4D63-A716-4CF45026A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D3C0798-953C-4652-9E8E-F57A7B463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207A8E-0F20-494C-8A63-4540EA7D8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E7D8F4-D146-4A3C-85AB-122781BA8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07FA07-997F-4031-AC6D-4BDDC19DC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06930B0-9AC0-4420-B14C-80BB38C5D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CF83355-28B6-4208-AC5E-B733AF5E7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C928C-F0EB-46B7-A3F3-182B84B58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0E82BAE-371D-440B-B1B7-46C326591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51D9C5-6E17-4E84-96A2-C8388586D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795AFB8-35E9-4AC5-9A39-BF961271A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35E059-7CFD-478A-8EF2-00CC8DA9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B6FE350-3D7D-4D1D-88DB-1CB406B56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520BCF-7021-4AE9-A8AB-63E7A68F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8E675B6-F1FA-489A-ACA3-B2BD6EDA2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BEA206-C6D4-4055-9190-241720579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1C0637-399F-4027-81F5-758048F6A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E56F063-7238-4982-823C-5092C33DD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8E12-D58F-4A09-9372-D902A369B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D7D192-F914-4235-B070-1A95EF9A6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47362A-C4BB-428A-AC84-B59779645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107D7B9-DBDB-46E9-BA5D-02CA32DB6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4FC5CA-8EBB-430B-946F-086820A53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85B061-A21E-4F71-B1A5-B91127884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F7BB29-FA4F-4294-A3FD-48C3D52B7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606C954-0C4B-4C3A-AD7A-56695F7BC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E946B1-707A-4567-91ED-73217B61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590AC2-D02E-4CAB-9061-B2AC19093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4E7857-A402-45B4-85C4-7BF619FDB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4437-AFC1-4F5C-9EF8-C50EE78D7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CC899-1550-4C32-8B1B-3B5244345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94EC02-A4DB-4E61-9F1E-870BE22F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C5D757-B44A-49F7-9C69-F828BC9CA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0D0032-F037-445C-BA45-8785B78E2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252DC92-2957-4845-8410-A9F6CF9A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357859-8A5C-4D1A-8FD6-E65507C91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38F4D9-0405-4E11-BA1A-4A0A47FD9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B7407D-14B5-475E-AAD4-A615FCFC2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AE69CE-BC18-486B-A67E-BDEDFB3F0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409A45-27A5-4007-BC6F-C705E3955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1B2F225-DE2A-4B35-BBE0-A9E1D2481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CB27-2803-469E-9947-885D19C64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066C9BA-084F-48F5-9F64-B0F793E4B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82F974-B742-49AB-9ECE-BF84863FD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7BCC1C-D72E-475A-A019-8F90630F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7D63E15-57D8-4835-9B7D-4580EDE78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2F331C0-0958-411B-A43E-0EE5F1AF3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A8B6D56-A7A9-45AF-8863-E619CA390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67A707-09EE-47D9-BBEE-DB5E1AA00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4DC96A0-7A0C-4995-B55A-43CA5537A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F55421-3D37-4AB3-8B12-AFD9E0A8E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63354F8-5693-4C28-933D-C6AAB17E8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44180-1562-43BF-BCB8-F5277808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2C58F4-17F9-4C7D-B7F4-2AE4F72CC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7C8218-76ED-41FC-A1C4-5664F4428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F748102-6B88-4D58-B0BD-6102A92E2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2F7CBF-7DD1-438B-A115-8CC876565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435273-19BD-44A7-83EE-E399B706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5CAEC8-D201-43AA-BE75-60DD7F36F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AF78A9-3E3D-49BA-9F26-1A487688F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1AFA65-E878-43EF-8D4A-9E97780F6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6F16AD-1B01-4060-8777-4B8EBCAFE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5922D06-C783-4C8E-82BC-513E50E3E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55BFE-29AF-40F7-93F2-E1AFDE73D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A1864E7-B8FA-47AF-9C03-0FEEEED02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0E2C2E-76C0-4653-9888-83FC10B76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204262-C09C-4A30-A8B9-5D5EDF3C0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64242C-0DDF-4915-96C5-5ED3F472B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412683F-742A-44EE-8E45-8A67280DA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628FF4-933D-4685-92C2-6C474CA17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C91658-C391-4DE7-BCD4-76509FFFE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6C818B-F643-483E-9C50-2E000740C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4E79A97-A3F0-4909-BDBE-7D139DCC0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E5DB8C6-A03D-4B78-B39E-9EA60990E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D05F2-3319-4E09-A60E-F362EC463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190157-8D4E-4952-90B5-0C2991A5E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162BAF2-168F-4F50-8D79-08E5874AD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C0FE1A-7B6D-4937-AD77-2CDF7EDCF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95B1DB-369C-4CCC-8357-FD4DA730A9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BAD8754-A18E-402F-AFB7-4C8410D9C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4BFCBF-197D-4959-9B1C-EFE2D83A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49F2A7-00EE-4825-AB6E-217A68E27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B55AC1-6DA8-4BA0-A383-2664C3953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D85B9E-7805-4DEB-83F7-662FFA69F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091914-313E-4A12-950F-C0E15945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4BB70-23AB-4EB6-AF6D-23B086AE8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3C46210-31DC-4823-B418-E5BBF8133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AF224E2-BB55-478E-B730-8FEC3FEC8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56C84C9-E634-4D16-8692-76F82F3F3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B954EF-49BE-4735-8E14-E10ECC72F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C7A9949-075B-4DA1-B9BC-159DAD2CC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0C9294-0A3A-41AD-B064-D85341B15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A91560-3E1F-4DCC-90CB-EFDAE117D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F1A8039-D753-4EBC-88F3-0748617BF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81F684-4B63-4D65-B64B-0249CDEFE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1A7E5B8-C709-4958-8009-6BA3F09F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AAD86F-807B-4F1F-AB3D-434E729C9D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75B897A-0294-42F7-9BF3-91FA70384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1CE65F5-F4C3-4821-8EBB-ED77CBD8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AB02C17-400D-4846-8DE1-0CEDE923E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B4527F-A275-4F34-B195-89B9B979E3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8BE9F76-F26C-4ACB-B6D6-584180E8C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700203-E5D4-4599-BBDF-B4336112F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C847FEF-CB21-418C-B0E0-642884547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942226-7196-4856-B161-D07A5C5E9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100E6F-510A-4263-B5F5-968536B10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72C8F72-96A5-4DAF-96B4-3B5C879F1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E0D86-61FE-454E-9178-539F46E86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25FF33-1378-4F17-B2E1-99F693B9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594EB1-E95D-4CC3-872A-A979D0410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3E495FC-BCDF-4E7E-94B4-52283AF68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9EC741F-AEB0-4F7F-A9BD-31A628340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93DB61C-D106-49FA-8FB5-3530955F4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EEC94BC-B806-4B4F-BC6E-AD6FF7E2B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979E9F-274B-4F67-8469-B109BB6E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6D7EB8-B870-4BCD-8857-54E361800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5DAE76E-94CB-49A8-89A0-3EFA4E932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54C0FB8-F41A-4C2D-8FDE-3DF1996155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C12B6B-124E-4395-9E36-60AEC1417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C5D601-EDAA-46BB-9103-C3122FAF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2B77F76-DF2A-4CA4-9485-7BD5A4BB4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C7530B8-7A57-48C8-B267-C2208FD98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076BDB-A5D3-4046-A4D6-22C260A3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A5D6868-F594-4568-BAE0-BD9AE073F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595C214-D7C3-4478-B7CF-46160DBB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10D884-F5CB-484A-BD81-E3028A2DE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14B4B8B-AF29-4F6E-ACEA-9C4DC60E7F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2962AC-40DC-4760-BBD1-3506A9FB6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8CED92-8E7B-4983-8031-0B3E145AD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C61A5-02B0-4459-9BA9-86F13973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F6FF4-2C2D-438D-9D13-98F387285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61AB2-EFB2-47D8-83ED-11B9163D8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CFA5D3-700A-4805-87E4-FE5AAA68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ABB86-7536-4ACE-B481-FC5EBE861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A24F44-8D4A-4975-BDD4-8A6C50F46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20A8C5-99D8-49BF-B367-9C0109F5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0EE585-9359-4A21-BBFF-B7B6C99AE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1A40BC-BF5E-46B3-8EF3-EFAC9ACF6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FB16A-AC6C-4A30-BD9A-4050DF62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E6AF0E-A709-4578-9DA7-EB66AD3F0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109A1-69C1-45E8-B631-6DF4C3B3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DCC834-838D-4189-9B45-22D79FC1E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2DB1E9-1063-4CD4-9F8C-B50CF8966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0FFD57-B334-41B4-99AF-5C03602C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8DB108-116D-4312-9BF5-90825AA2D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3B11E-40CD-4178-93BF-CA7EF7DC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AA801-BDD3-4EAC-95A7-210478A63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02EEC5-31CF-4BC1-A3A0-35DB26E2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EEF809-4D3E-463A-8DBF-BBC1C6FFB1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AA568-6570-4E49-855A-30FEFF6572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2655D1-B46D-4354-9FC5-58D32EED0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57CF2-5931-44C4-87D0-8F62B2B34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E05382-3784-4740-B1EF-04B6A23BC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2438F0-BC4D-47A5-8C45-1C0ED8744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0527E-EB9C-4DE8-90CF-83D527F4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E98FE-DB67-4EEE-9936-16D0EE2F7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52407B-0E54-4E5B-87DE-5D1A86438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B1A306-093D-4512-B845-7DF6ACCA1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35AD10-4EEB-43B6-9866-B9DF590A1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2918B5-8CE9-4385-B70E-16E9C8CA6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A90B0F-18C9-4C66-B2A6-662DE7027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1FFB5A-11C6-4E6B-927F-A54521CAB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B32AC-2F40-4DFD-AC34-0027D8E35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C3C42C-43D3-428F-BD94-1FC005274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74813D-DBF2-47F1-A701-975B46D1E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01FDD-3AE9-489E-B5C6-D2817F98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26C342-09D9-4ACC-8E5E-DDA6D3A43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C93E5F-BABF-4F9D-8C16-3A7AC5DC4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22FAAE-58EE-4E12-AE52-E76FA2E3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3370D9-6832-471C-974B-1FB745388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31B980-6B9C-4433-B441-1939F3067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A416FE-3817-4E5A-849A-851C3425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3A48C1-547F-4FD7-9984-6C9D6E3A6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25ADA-B76C-4B91-94EA-25945CD89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57CA4C-B646-4526-A0E8-1898F2217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AE5D56-4641-4F04-A3DC-B195E9FFF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EE931A-58F1-4EF7-A097-484F30879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8F7D19-2CEB-46FA-8151-E28DDF9DA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29912-AF66-4F7D-8218-4FBC868A1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CD6874-796F-4D1B-95B2-9C51625DB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2875EF2-B4BD-4CCC-A398-56400C3FB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0C6C71-3F7E-4F9B-865A-3B4371031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B7A3CE-7271-445E-AF72-9795DA745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93FFCC-4E8F-4A4D-800E-97662A60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AD8C-2675-4008-9463-C947F3E1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EA510A-9617-4ED4-9D08-692B6A25E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1208D3-A18C-48A6-ACD6-B3C85FB7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9E1595-280E-4F24-AFCA-24879E57E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A24EEF-C959-45F3-A344-09D396392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44759-BDCF-4E41-BBDF-10DE6EDBC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78407B-55C2-4043-8719-FB05036F0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45F703-713C-4597-9756-0752C939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E30720-CA99-4638-8671-3D3F3342E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2650E5-13AB-4A1A-835E-5AF0B4394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55C561-02B7-4177-89FA-A0701543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607F-0329-41BD-AE12-9250C5023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468000" y="274680"/>
            <a:ext cx="777564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FF134F-B184-4018-8D9A-8B3716FBE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99C1DFD-6D11-45B5-B3F4-C155834DF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2AE199-6805-4A76-B986-AEF52A7D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29443F-6590-4FC3-8C8C-6D912079F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CA6FA3-DC02-427B-9EA8-4092C89DE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7E925D-8951-4C65-A787-273B356AE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C9C015-0B20-4569-8723-984A1AFCE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2D29B3-3A2B-4566-8DDF-30A6D77DA9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D28111-1B0A-4B47-B3B3-DD093BB3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2E0E48-B5A1-42D0-9DA6-61C64C8C6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F5D3-B817-4382-A33B-37E71B514DA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E:\制作工作\2014\1\PPT模板\样例\7 初中数学\模板1-2.png"/>
          <p:cNvPicPr/>
          <p:nvPr/>
        </p:nvPicPr>
        <p:blipFill>
          <a:blip r:embed="rId3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0B42-0488-40F9-A101-2B1CBCFD5D7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273DB-6660-4335-83EB-80B63C7C8C3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15DCF-3FF5-40B8-B4C7-AAFA418BC17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543AA-1CDF-418A-B7C0-4BE8F1473DA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997CE-0496-4602-A4FA-29D9A7A2960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D7C3C-0D27-4D93-BC21-116756ED52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3BA22-3775-4B08-A384-6300801E6E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2D42D-4EBA-440E-B3CD-89CF3C3771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E973F-33E3-4615-B091-57FFA394982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A097-1E11-46B6-81C9-9356B66E6EF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8" descr="E:\制作工作\2014\1\PPT模板\样例\7 初中数学\模板1-2.png"/>
          <p:cNvPicPr/>
          <p:nvPr/>
        </p:nvPicPr>
        <p:blipFill>
          <a:blip r:embed="rId3"/>
          <a:stretch/>
        </p:blipFill>
        <p:spPr>
          <a:xfrm>
            <a:off x="1440" y="0"/>
            <a:ext cx="9142560" cy="68565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E:\制作工作\2014\1\PPT模板\样例\7 初中数学\模板1-1.png"/>
          <p:cNvPicPr/>
          <p:nvPr/>
        </p:nvPicPr>
        <p:blipFill>
          <a:blip r:embed="rId4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4A5A-B602-4929-86EC-34FC17DEE06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66AAF-1267-462E-A23B-88A79D5F21C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 type="dt" idx="6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 type="ftr" idx="6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 type="sldNum" idx="6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5877F-7934-4868-AAAB-CC3240D1E6E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 type="dt" idx="6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 type="ftr" idx="6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 type="sldNum" idx="6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2CA4C-16ED-43F7-8658-4D0DA29A5E8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 type="dt" idx="6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 type="ftr" idx="6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PlaceHolder 5"/>
          <p:cNvSpPr>
            <a:spLocks noGrp="1"/>
          </p:cNvSpPr>
          <p:nvPr>
            <p:ph type="sldNum" idx="6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FA55-6CA2-4C11-B2C1-F1281D60D3B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 type="dt" idx="7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 type="ftr" idx="7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5"/>
          <p:cNvSpPr>
            <a:spLocks noGrp="1"/>
          </p:cNvSpPr>
          <p:nvPr>
            <p:ph type="sldNum" idx="7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6DC10-6AE5-4039-90B4-590DD30F5C1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7C1AE-329A-4941-95C6-D27B7FE885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28007-A869-4465-8993-30106B0EB19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D3AF3-A950-4C76-8DA8-0DC89400F53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5C47C-7BBB-4664-99BC-D26F1E5B66E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9F65-04E5-4605-8911-FB9441C50A4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3D211-4988-43C9-9E52-A3EDEF2A16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8000" y="274680"/>
            <a:ext cx="77756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3591-537F-468C-9801-2D19EC588E1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3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69800" y="274680"/>
            <a:ext cx="7847280" cy="28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9.3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课题学习　制作立体模型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（第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课时）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612720" y="3645000"/>
            <a:ext cx="8074080" cy="24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新庄中学    朱发栋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矩形 36"/>
          <p:cNvSpPr/>
          <p:nvPr/>
        </p:nvSpPr>
        <p:spPr>
          <a:xfrm>
            <a:off x="250920" y="328680"/>
            <a:ext cx="6337080" cy="581400"/>
          </a:xfrm>
          <a:prstGeom prst="rect">
            <a:avLst/>
          </a:prstGeom>
          <a:noFill/>
          <a:ln w="73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由三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锥的展示图制作三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Rectangle 3"/>
          <p:cNvSpPr/>
          <p:nvPr/>
        </p:nvSpPr>
        <p:spPr>
          <a:xfrm>
            <a:off x="179280" y="126828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问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下面的每组平面图形，都由四个等边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角形组成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3"/>
          <p:cNvSpPr/>
          <p:nvPr/>
        </p:nvSpPr>
        <p:spPr>
          <a:xfrm>
            <a:off x="179280" y="50133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指出其中哪些可以折叠成三棱锥．把上面的图形描在纸上，剪下来，叠一叠，验证你的结论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Rectangle 22"/>
          <p:cNvSpPr/>
          <p:nvPr/>
        </p:nvSpPr>
        <p:spPr>
          <a:xfrm>
            <a:off x="898560" y="4365720"/>
            <a:ext cx="10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23"/>
          <p:cNvSpPr/>
          <p:nvPr/>
        </p:nvSpPr>
        <p:spPr>
          <a:xfrm>
            <a:off x="3691080" y="4365720"/>
            <a:ext cx="10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5"/>
          <p:cNvSpPr/>
          <p:nvPr/>
        </p:nvSpPr>
        <p:spPr>
          <a:xfrm>
            <a:off x="6588000" y="4365720"/>
            <a:ext cx="10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5" name="Picture 26" descr="@~UFYCYB96L~2$8U(B07PGS"/>
          <p:cNvPicPr/>
          <p:nvPr/>
        </p:nvPicPr>
        <p:blipFill>
          <a:blip r:embed="rId2"/>
          <a:stretch/>
        </p:blipFill>
        <p:spPr>
          <a:xfrm>
            <a:off x="250920" y="2205000"/>
            <a:ext cx="8569080" cy="2129040"/>
          </a:xfrm>
          <a:prstGeom prst="rect">
            <a:avLst/>
          </a:prstGeom>
          <a:ln w="0">
            <a:noFill/>
          </a:ln>
        </p:spPr>
      </p:pic>
      <p:pic>
        <p:nvPicPr>
          <p:cNvPr id="996" name="图片 6" descr="tb.png"/>
          <p:cNvPicPr/>
          <p:nvPr/>
        </p:nvPicPr>
        <p:blipFill>
          <a:blip r:embed="rId3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矩形 36"/>
          <p:cNvSpPr/>
          <p:nvPr/>
        </p:nvSpPr>
        <p:spPr>
          <a:xfrm>
            <a:off x="250920" y="328680"/>
            <a:ext cx="6337080" cy="581400"/>
          </a:xfrm>
          <a:prstGeom prst="rect">
            <a:avLst/>
          </a:prstGeom>
          <a:noFill/>
          <a:ln w="73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由三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锥的展示图制作三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ectangle 3"/>
          <p:cNvSpPr/>
          <p:nvPr/>
        </p:nvSpPr>
        <p:spPr>
          <a:xfrm>
            <a:off x="179280" y="126828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问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下面的每组平面图形，都由四个等边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角形组成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Rectangle 3"/>
          <p:cNvSpPr/>
          <p:nvPr/>
        </p:nvSpPr>
        <p:spPr>
          <a:xfrm>
            <a:off x="179280" y="5013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画出由上面图形能折叠成的三棱锥的三视图，并指出三视图中是怎样体现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长对正，高平齐，宽相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的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Rectangle 23"/>
          <p:cNvSpPr/>
          <p:nvPr/>
        </p:nvSpPr>
        <p:spPr>
          <a:xfrm>
            <a:off x="898560" y="4365720"/>
            <a:ext cx="10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24"/>
          <p:cNvSpPr/>
          <p:nvPr/>
        </p:nvSpPr>
        <p:spPr>
          <a:xfrm>
            <a:off x="3691080" y="4365720"/>
            <a:ext cx="10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25"/>
          <p:cNvSpPr/>
          <p:nvPr/>
        </p:nvSpPr>
        <p:spPr>
          <a:xfrm>
            <a:off x="6588000" y="4365720"/>
            <a:ext cx="10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26" descr="@~UFYCYB96L~2$8U(B07PGS"/>
          <p:cNvPicPr/>
          <p:nvPr/>
        </p:nvPicPr>
        <p:blipFill>
          <a:blip r:embed="rId2"/>
          <a:stretch/>
        </p:blipFill>
        <p:spPr>
          <a:xfrm>
            <a:off x="250920" y="2205000"/>
            <a:ext cx="8569080" cy="2129040"/>
          </a:xfrm>
          <a:prstGeom prst="rect">
            <a:avLst/>
          </a:prstGeom>
          <a:ln w="0">
            <a:noFill/>
          </a:ln>
        </p:spPr>
      </p:pic>
      <p:pic>
        <p:nvPicPr>
          <p:cNvPr id="1004" name="图片 6" descr="tb.png"/>
          <p:cNvPicPr/>
          <p:nvPr/>
        </p:nvPicPr>
        <p:blipFill>
          <a:blip r:embed="rId3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5" name="Picture 26" descr="@~UFYCYB96L~2$8U(B07PGS"/>
          <p:cNvPicPr/>
          <p:nvPr/>
        </p:nvPicPr>
        <p:blipFill>
          <a:blip r:embed="rId2"/>
          <a:stretch/>
        </p:blipFill>
        <p:spPr>
          <a:xfrm>
            <a:off x="250920" y="2205000"/>
            <a:ext cx="8569080" cy="2129040"/>
          </a:xfrm>
          <a:prstGeom prst="rect">
            <a:avLst/>
          </a:prstGeom>
          <a:ln w="0">
            <a:noFill/>
          </a:ln>
        </p:spPr>
      </p:pic>
      <p:sp>
        <p:nvSpPr>
          <p:cNvPr id="1006" name="矩形 36"/>
          <p:cNvSpPr/>
          <p:nvPr/>
        </p:nvSpPr>
        <p:spPr>
          <a:xfrm>
            <a:off x="250920" y="328680"/>
            <a:ext cx="6337080" cy="581400"/>
          </a:xfrm>
          <a:prstGeom prst="rect">
            <a:avLst/>
          </a:prstGeom>
          <a:noFill/>
          <a:ln w="73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由三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锥的展示图制作三</a:t>
            </a:r>
            <a:r>
              <a:rPr b="1" lang="zh-CN" sz="3200" spc="-1" strike="noStrike">
                <a:solidFill>
                  <a:srgbClr val="000000"/>
                </a:solidFill>
                <a:latin typeface="Calibri"/>
              </a:rPr>
              <a:t>棱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Rectangle 3"/>
          <p:cNvSpPr/>
          <p:nvPr/>
        </p:nvSpPr>
        <p:spPr>
          <a:xfrm>
            <a:off x="179280" y="126828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问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下面的每组平面图形，都由四个等边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角形组成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Rectangle 3"/>
          <p:cNvSpPr/>
          <p:nvPr/>
        </p:nvSpPr>
        <p:spPr>
          <a:xfrm>
            <a:off x="179280" y="501336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如果上图中小三角形的边长为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，那么对应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三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棱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锥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的表面积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23"/>
          <p:cNvSpPr/>
          <p:nvPr/>
        </p:nvSpPr>
        <p:spPr>
          <a:xfrm>
            <a:off x="898560" y="4365720"/>
            <a:ext cx="10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24"/>
          <p:cNvSpPr/>
          <p:nvPr/>
        </p:nvSpPr>
        <p:spPr>
          <a:xfrm>
            <a:off x="3691080" y="4365720"/>
            <a:ext cx="10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25"/>
          <p:cNvSpPr/>
          <p:nvPr/>
        </p:nvSpPr>
        <p:spPr>
          <a:xfrm>
            <a:off x="6588000" y="4365720"/>
            <a:ext cx="109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2" name="图片 6" descr="tb.png"/>
          <p:cNvPicPr/>
          <p:nvPr/>
        </p:nvPicPr>
        <p:blipFill>
          <a:blip r:embed="rId3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3" name="Picture 10" descr="6K~~ZG]`KI4{FE@NVI@RH[H"/>
          <p:cNvPicPr/>
          <p:nvPr/>
        </p:nvPicPr>
        <p:blipFill>
          <a:blip r:embed="rId2"/>
          <a:stretch/>
        </p:blipFill>
        <p:spPr>
          <a:xfrm>
            <a:off x="3059280" y="1908000"/>
            <a:ext cx="2376360" cy="1986120"/>
          </a:xfrm>
          <a:prstGeom prst="rect">
            <a:avLst/>
          </a:prstGeom>
          <a:ln w="0">
            <a:noFill/>
          </a:ln>
        </p:spPr>
      </p:pic>
      <p:sp>
        <p:nvSpPr>
          <p:cNvPr id="1014" name="矩形 36"/>
          <p:cNvSpPr/>
          <p:nvPr/>
        </p:nvSpPr>
        <p:spPr>
          <a:xfrm>
            <a:off x="250920" y="328680"/>
            <a:ext cx="6337080" cy="581400"/>
          </a:xfrm>
          <a:prstGeom prst="rect">
            <a:avLst/>
          </a:prstGeom>
          <a:noFill/>
          <a:ln w="73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由圆锥的平面展开图制作圆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Rectangle 3"/>
          <p:cNvSpPr/>
          <p:nvPr/>
        </p:nvSpPr>
        <p:spPr>
          <a:xfrm>
            <a:off x="179280" y="126828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问题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下面的图形由一个扇形和一个圆组成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Rectangle 3"/>
          <p:cNvSpPr/>
          <p:nvPr/>
        </p:nvSpPr>
        <p:spPr>
          <a:xfrm>
            <a:off x="158760" y="3903840"/>
            <a:ext cx="8964720" cy="19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把上面的图形描在纸上，剪下来，围成一个圆锥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画出由上面图形围成的圆锥的三视图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）如果上图中扇形的半径为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，圆的半径为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，那么对应的圆锥的体积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6" descr="tb.png"/>
          <p:cNvPicPr/>
          <p:nvPr/>
        </p:nvPicPr>
        <p:blipFill>
          <a:blip r:embed="rId3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矩形 36"/>
          <p:cNvSpPr/>
          <p:nvPr/>
        </p:nvSpPr>
        <p:spPr>
          <a:xfrm>
            <a:off x="250920" y="328680"/>
            <a:ext cx="3097080" cy="581400"/>
          </a:xfrm>
          <a:prstGeom prst="rect">
            <a:avLst/>
          </a:prstGeom>
          <a:noFill/>
          <a:ln w="73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．反思与小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Rectangle 3"/>
          <p:cNvSpPr/>
          <p:nvPr/>
        </p:nvSpPr>
        <p:spPr>
          <a:xfrm>
            <a:off x="179280" y="126828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认识平面图形与立体图形的联系，有助于根据需要实现它们之间的相互转化，即学会画三视图以及由三视图得出立体图形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0" name="图片 6" descr="tb.png"/>
          <p:cNvPicPr/>
          <p:nvPr/>
        </p:nvPicPr>
        <p:blipFill>
          <a:blip r:embed="rId2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矩形 7"/>
          <p:cNvSpPr/>
          <p:nvPr/>
        </p:nvSpPr>
        <p:spPr>
          <a:xfrm>
            <a:off x="250920" y="328680"/>
            <a:ext cx="2665440" cy="581400"/>
          </a:xfrm>
          <a:prstGeom prst="rect">
            <a:avLst/>
          </a:prstGeom>
          <a:noFill/>
          <a:ln w="73080">
            <a:solidFill>
              <a:srgbClr val="d60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．布置作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Rectangle 3"/>
          <p:cNvSpPr/>
          <p:nvPr/>
        </p:nvSpPr>
        <p:spPr>
          <a:xfrm>
            <a:off x="179280" y="126828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三视图和展开图都是与立体图形有关的平面图形，利用课余时间，结合我们的生活实际和具体的事例，写一篇短文介绍三视图、展开图的应用，以及你的感受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3" name="图片 6" descr="tb.png"/>
          <p:cNvPicPr/>
          <p:nvPr/>
        </p:nvPicPr>
        <p:blipFill>
          <a:blip r:embed="rId2"/>
          <a:stretch/>
        </p:blipFill>
        <p:spPr>
          <a:xfrm>
            <a:off x="8359920" y="155520"/>
            <a:ext cx="595080" cy="5954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23T07:18:53Z</dcterms:created>
  <dc:creator>郑新明</dc:creator>
  <dc:description/>
  <dc:language>en-US</dc:language>
  <cp:lastModifiedBy>Administrator</cp:lastModifiedBy>
  <dcterms:modified xsi:type="dcterms:W3CDTF">2015-11-17T12:59:03Z</dcterms:modified>
  <cp:revision>15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